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303F-90CA-4E2F-8441-76F7F3088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F047-B993-4FAF-84FB-8AF5FEF6C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8B8-788A-421B-90FD-FF82E1F3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DDF-2392-441C-96BC-2B53C4C7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C7C-B566-46B6-A02D-CDF6D748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9E6-E9C9-4EF8-A6E5-E1B71949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0AF-E5E7-4C02-B45B-530837BF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0B6-C6F2-49B8-89B6-1590380A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CE1-3135-40C0-B9E3-BDC73857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412-0CCE-4F6B-8E63-5CAC7407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A86-1754-4726-9A06-816AC661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A51-3D32-48DC-B5C2-7A61345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2C2-0562-4D75-B3A6-CEAF8148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633-BFD0-4C1E-A8E8-0078B4FD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8A8B-4980-49D3-9BAD-CD1575EB9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Lugovoy@dst.khv.ru" TargetMode="External"/><Relationship Id="rId2" Type="http://schemas.openxmlformats.org/officeDocument/2006/relationships/hyperlink" Target="mailto:Lugovoy@dst.khv.ru" TargetMode="External"/><Relationship Id="rId3" Type="http://schemas.openxmlformats.org/officeDocument/2006/relationships/hyperlink" Target="mailto:Lugovoy@dst.khv.ru" TargetMode="External"/><Relationship Id="rId4" Type="http://schemas.openxmlformats.org/officeDocument/2006/relationships/hyperlink" Target="mailto:Lugovoy@dst.khv.ru" TargetMode="External"/><Relationship Id="rId5" Type="http://schemas.openxmlformats.org/officeDocument/2006/relationships/hyperlink" Target="mailto:Lugovoy@dst.khv.ru" TargetMode="External"/><Relationship Id="rId6" Type="http://schemas.openxmlformats.org/officeDocument/2006/relationships/hyperlink" Target="mailto:Lugovoy@dst.khv.ru" TargetMode="External"/><Relationship Id="rId7" Type="http://schemas.openxmlformats.org/officeDocument/2006/relationships/hyperlink" Target="mailto:Lugovoy@dst.khv.ru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ЛОТНЫЕ СЛИЧЕНИЯ КООМЕ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6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/16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ылев П.В., ведущий научный сотрудни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оратории оптико-акустических измер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альневосточный филиал ВНИИФТРИ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. Хабаровс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предварительных измерен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ГИМ, Сентябрь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836640"/>
          <a:ext cx="8856720" cy="5580000"/>
        </p:xfrm>
        <a:graphic>
          <a:graphicData uri="http://schemas.openxmlformats.org/drawingml/2006/table">
            <a:tbl>
              <a:tblPr/>
              <a:tblGrid>
                <a:gridCol w="1728720"/>
                <a:gridCol w="1872000"/>
                <a:gridCol w="1800000"/>
                <a:gridCol w="1152720"/>
                <a:gridCol w="1150920"/>
                <a:gridCol w="1152360"/>
              </a:tblGrid>
              <a:tr h="642600">
                <a:tc row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продольных УЗ волн, 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, М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d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ЭТ18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j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ИСУ-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 КВ 100х10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9,5 ± 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9,91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± 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9,907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 КВ* 100х10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9,5 ±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9,948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9,6 ± 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9,9491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 КВ* 100х10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9,5 ±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9,948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1,3 ± 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9,9491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 К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4,1 ± 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40,0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6,2 ± 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40,0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о БК8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3,2 ±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0,07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3,4 ± 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0,07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ь 40Х13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3,2 ± 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,8384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4,5 ±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,84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ь 40Х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3,3 ± 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1,1848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2,0 ± 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1,18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TextBox 9"/>
          <p:cNvSpPr/>
          <p:nvPr/>
        </p:nvSpPr>
        <p:spPr>
          <a:xfrm>
            <a:off x="179280" y="6453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Меры принимали участие в сличениях 448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лоны сравнения. Новый компл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004760"/>
          <a:ext cx="8640720" cy="3888000"/>
        </p:xfrm>
        <a:graphic>
          <a:graphicData uri="http://schemas.openxmlformats.org/drawingml/2006/table">
            <a:tbl>
              <a:tblPr/>
              <a:tblGrid>
                <a:gridCol w="434880"/>
                <a:gridCol w="2733480"/>
                <a:gridCol w="2087640"/>
                <a:gridCol w="1800360"/>
                <a:gridCol w="1584360"/>
              </a:tblGrid>
              <a:tr h="34668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рка сте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алог Шот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продольных УЗ волн, 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метрические размеры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инальная толщ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ере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F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-BK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F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рц 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рц 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ы скорости из ст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Меры_1308"/>
          <p:cNvPicPr/>
          <p:nvPr/>
        </p:nvPicPr>
        <p:blipFill>
          <a:blip r:embed="rId1"/>
          <a:stretch/>
        </p:blipFill>
        <p:spPr>
          <a:xfrm>
            <a:off x="673200" y="1085760"/>
            <a:ext cx="76438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 работ 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611280" y="836640"/>
            <a:ext cx="8281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ание темы с участниками сли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ание графика проведения измерений с участниками слич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Технического проток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эталонов сравнения - комплекта эталонных мер скор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измерений с использованием комплекта эталонных мер скорости в Дальневосточном филиале ФГУП «ВНИИФТРИ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-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ртал 2018 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измерений с использованием нового комплекта эталонных мер скорости в БелГ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ртал 2018 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7776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036000" cy="6553080"/>
          </a:xfrm>
          <a:prstGeom prst="rect">
            <a:avLst/>
          </a:prstGeom>
          <a:noFill/>
          <a:ln w="0">
            <a:noFill/>
          </a:ln>
        </p:spPr>
        <p:txBody>
          <a:bodyPr lIns="36000" rIns="1800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длагаемая тема</a:t>
            </a:r>
            <a:br>
              <a:rPr sz="1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ЛОТНЫЕ СЛИЧЕНИЯ КООМЕТ 706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/16</a:t>
            </a:r>
            <a:br>
              <a:rPr sz="2400"/>
            </a:br>
            <a:br>
              <a:rPr sz="18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ичение результатов измерений скорости распространения продольных ультразвуковых волн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вердых средах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астники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альневосточный филиал ФГУП ВНИИФТРИ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оссия, Хабаровск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елГИМ (Беларусь)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П «Днепрстандартметролог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краина)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длагаемая тема зарегистрирована в Секретариате КООМ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12 заседании ТК 1.2 КООМЕТ (Вильнюс, сентябрь 2017) заинтересованность в участии в сличении выразили представители ГП «Укрметртестстандарт» (Украина)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 НМИ Кита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яр предлагаемой 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9280" y="569880"/>
          <a:ext cx="8785440" cy="579132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АЯ ТЕМА КОО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рядковый номер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Тематическая облас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СТИКА, УЛЬТРАЗВУК И ВИБ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правление сотрудниче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лотные сли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артнер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ый филиал ФГУП «ВНИИФТРИ» (Россия), БелГИМ  (Беларусь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именование тем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чение результатов измерений скорости распространения  продольных ультразвуковых волн в твердых  сре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писан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емы является проведение исследований для установления причин расхождения результатов  измерений скорости распространения продольных ультразвуковых волн, полученных в 2011 году на установках для измерения скорости распространения продольных УЗ волн УИСУ-3 (Беларусь) и эталонной установки УВТ 39-А-8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лоны сравнения - меры из стекол различных марок и конструкционных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ы воспроизведения скорости, м/с ………………………5000 - 6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 частот УЗ продольных волн, МГц……………………   0,5 - 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пазон толщин мер, м…………………………………………...1*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1*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яр предлагаемой 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476280"/>
          <a:ext cx="8785440" cy="6303960"/>
        </p:xfrm>
        <a:graphic>
          <a:graphicData uri="http://schemas.openxmlformats.org/drawingml/2006/table">
            <a:tbl>
              <a:tblPr/>
              <a:tblGrid>
                <a:gridCol w="3961080"/>
                <a:gridCol w="1726920"/>
                <a:gridCol w="3097440"/>
              </a:tblGrid>
              <a:tr h="4205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ополнительные замеча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имеет значение для измерений в области ультразвуковой толщинометрии, дефектоскопии, структуроскопии и при определении физико-механическх характеристик твердых ср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 темы предлагается разработка предложений КООМЕТ по расширению классификатора СМ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U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область акустики твердых ср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1 году был завершен проект: «Сличение результатов измерений скорости распространения продольных ультразвуковых волн в твердых средах» (тема: 448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). В рамках проекта было проведено сличение результатов измерений с участием исходных установок УВТ 39-А-86 (Россия) и УИСУ-3 (Беларусь). Сличения выявили расхождение результатов измерений скорости продольных ультразвуковых волн различными методами: бесконтактным импульсным опто-акустическим (Россия) и иммерсионным импульсным (Белоруссия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 КООМЕТ для  получения новых результатов и выявления  причин расхождения результатов предлагается организация нового сличения  с целью измерения скорости распространения продольных ультразвуковых волн с участием эталонной  оптической установки, входящей в состав государственного первичного эталона  ГЭТ 189-2014 (Россия); эталонной  ёмкостной  установки ИЗУ для комплексного измерения акустических параметров твердых сред (ГОСТ Р 8.756-2014, Россия) и иммерсионной установки УИСУ-3 (Беларусь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Фамилия предлагающего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говой Владимир Александр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, 680 000, Хабаровск, ул. Карла - Маркса - 65, Дальневосточный филиал ФГУП «ВНИИФТР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: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7 (4212) 30-17-62,  +7 (4212) 32-17-68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с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+7 (4212) 30-15-66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govoy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@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Подпись предлагающ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Предлагаемая дата начал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артал 2017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3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Виза Члена Комитета КОО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:   В.Н. Крутиков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41" descr="Луговой"/>
          <p:cNvPicPr/>
          <p:nvPr/>
        </p:nvPicPr>
        <p:blipFill>
          <a:blip r:embed="rId1"/>
          <a:stretch/>
        </p:blipFill>
        <p:spPr>
          <a:xfrm>
            <a:off x="2752560" y="5516640"/>
            <a:ext cx="117180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подпись"/>
          <p:cNvPicPr/>
          <p:nvPr/>
        </p:nvPicPr>
        <p:blipFill>
          <a:blip r:embed="rId2"/>
          <a:stretch/>
        </p:blipFill>
        <p:spPr>
          <a:xfrm>
            <a:off x="5827680" y="6058080"/>
            <a:ext cx="133668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85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лон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лонная установка в составе государственного первичного эталона единиц скоростей распространения и коэффициента затухания УЗ волн в твердых средах ГЭТ189-2014 (ДВФ ВНИИФТРИ, Россия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контактные оптические методы возбуждения и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регистрации продольных УЗ волн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-импульсный метод измер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Эталонная установка для комплексных измерений акустических параметров твердых сред ИЗУ (ДВФ ВНИИФТРИ, Россия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Бе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ные емкостные методы возбуждения и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регистрации продольных УЗ вол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-импульсный и резонансный методы измер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Эталонная установка для измерения скорости продольных ультразвуковых волн УИСУ-3 (БелГИМ, Беларус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мерсионный метод возбуждения и регистрации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продольных УЗ волн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-импульсный метод измер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Эталонная установка для измерения скорости продольных ультразвуковых волн УИСУ-01 (Днепрстандартметрология, Украин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▪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мерсионный метод возбуждения и регистрации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продольных УЗ волн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▪ 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-импульсный метод измерени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ота продольных УЗ волн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яр согласованной те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549360"/>
          <a:ext cx="8640720" cy="6291000"/>
        </p:xfrm>
        <a:graphic>
          <a:graphicData uri="http://schemas.openxmlformats.org/drawingml/2006/table">
            <a:tbl>
              <a:tblPr/>
              <a:tblGrid>
                <a:gridCol w="4316400"/>
                <a:gridCol w="4324320"/>
              </a:tblGrid>
              <a:tr h="314280">
                <a:tc gridSpan="2">
                  <a:txBody>
                    <a:bodyPr lIns="33480" rIns="33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ОВАННАЯ ТЕМА КОО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рядковый номе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Тематическая обла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СТИКА, УЛЬТРАЗВУК И ВИБ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gridSpan="2">
                  <a:txBody>
                    <a:bodyPr lIns="33480" rIns="33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правление сотрудничества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лотные сли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1120">
                <a:tc gridSpan="2">
                  <a:txBody>
                    <a:bodyPr lIns="33480" rIns="33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 Рабочая групп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еспублика Беларусь, Белорусский государственный институт метрологии (БелГИМ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Федоров Владислав Викторович, заместитель начальника отд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Добров Александр Александрович, ведущий инженер производственно-исследовательского отдела измерений виброакустических величин и параметров неразрушающего контро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Государственное предприятие «Днепропетровский региональный государственный научно-технический центр стандартизации, метрологии и сертификац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ГП «Днепрстандартметрология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Сазонов Павел Александрович, начальник научно-технического отдела поверки и калибровки средств измерительной техники неразрушающего контро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Государственное предприятие «Всеукраинский государственный центр стандартизации, метрологии, сертификации и защиты прав потребителей» 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П «Укрметртестстандарт»)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Иващенко Андрей Павлович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начальник НПО МО измерений параметров движения и вибро-акустических велич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НМ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ссийская Федерация,  Дальневосточный филиал ФГУП «ВНИИФТРИ» (НМИ - пилот)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Луговой Владимир Александрович, начальник лаборатории оптико-акустических измер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Базылев Петр Владимирович, ведущий научный сотрудник лаборатории оптико-акустических измерений, ученый хранитель Государственного первичного эталона скоростей распространения и коэффициента затухания ультразвуковых волн в твердых средах ГЭТ 189-20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gridSpan="2">
                  <a:txBody>
                    <a:bodyPr lIns="33480" rIns="33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именование те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Сличение результатов измерений скорости распространения продольных ультразвуковых волн в твердых  сре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771560" y="19256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771560" y="1925640"/>
            <a:ext cx="19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771560" y="1925640"/>
            <a:ext cx="2157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яр согласованной те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692280"/>
          <a:ext cx="8642160" cy="5986440"/>
        </p:xfrm>
        <a:graphic>
          <a:graphicData uri="http://schemas.openxmlformats.org/drawingml/2006/table">
            <a:tbl>
              <a:tblPr/>
              <a:tblGrid>
                <a:gridCol w="3341520"/>
                <a:gridCol w="1209600"/>
                <a:gridCol w="578160"/>
                <a:gridCol w="3512880"/>
              </a:tblGrid>
              <a:tr h="1949400">
                <a:tc gridSpan="4"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. Опис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Целью темы</a:t>
                      </a:r>
                      <a:r>
                        <a:rPr b="0" i="1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является проведение сличений результатов измерения скорости распространения продольных ультразвуковых волн в </a:t>
                      </a:r>
                      <a:r>
                        <a:rPr b="1" i="1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твердых сред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Эталоны сравнения - меры из стекол различных марок и конструкционных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апазон воспроизведения скорости, м/с ………………………5000 - 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Диапазон частот УЗ продольных волн, МГц…………………… 0,5 - 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Диапазон толщин мер, м…………………………………………..1*10</a:t>
                      </a:r>
                      <a:r>
                        <a:rPr b="0" lang="ru-RU" sz="1400" spc="-1" strike="noStrike" baseline="30000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ru-RU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 - 1*10</a:t>
                      </a:r>
                      <a:r>
                        <a:rPr b="0" lang="ru-RU" sz="1400" spc="-1" strike="noStrike" baseline="30000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личения пилотные. НМИ - пилот: Дальневосточный филиал ФГУП «ВНИИФТРИ», Р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 gridSpan="4"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ополнительные замеча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имеет значение для измерений в области ультразвуковой толщинометрии, дефектоскопии, структуроскопии и при определении физико-механических характеристик твердых ср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 gridSpan="4"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Фамилия координатора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говой Владимир Александр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, 680000, г. Хабаровск, ул. Карла  Маркса, 65, Дальневосточный филиал ФГУП «ВНИИФТР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: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7 (4212) 30-17-62,  +7 (4212) 32-92-68,  м.т. +7 914 541 96 60.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с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+7 (4212) 30-15-66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Lugovoy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@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dst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.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khv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.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396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. Дата согласования те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БелГ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ГП «Днепрстандартметролог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ГП «Укрметртестстандар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Китай, Н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ема №706/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7800" rIns="37800" tIns="0" bIns="0" anchor="t">
                      <a:noAutofit/>
                    </a:bodyPr>
                    <a:p>
                      <a:pPr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. Дата начал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квартал 2017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. Ожидаемая дата оконча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квартал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 gridSpan="2"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 координатор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ат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лоны 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4000" y="1004760"/>
          <a:ext cx="8640720" cy="4705560"/>
        </p:xfrm>
        <a:graphic>
          <a:graphicData uri="http://schemas.openxmlformats.org/drawingml/2006/table">
            <a:tbl>
              <a:tblPr/>
              <a:tblGrid>
                <a:gridCol w="434880"/>
                <a:gridCol w="2733480"/>
                <a:gridCol w="2087640"/>
                <a:gridCol w="1800360"/>
                <a:gridCol w="1584360"/>
              </a:tblGrid>
              <a:tr h="34956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продольных УЗ волн, 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метрические размеры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инальная толщ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ере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евое стекло 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евое стекло 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рцевое стекло 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ческое стекло К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ческое стекло К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3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ческое стекло БК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ь 40Х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ь 40Х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лоны сравнения.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79280" y="907920"/>
            <a:ext cx="8785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перечные размеры мер не мене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диаметр меры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толщина мер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лонение от плоскостности рабочих поверхностей мер в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есимметричной зоне диаметром 50 мм – не более 0,5 мк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лонение от параллельности рабочих поверхностей мер на диаметре 50 мм – не более 0,005 м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ероховатость со стороны регистрации УЗ импульсов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z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не более 0,1 мкм; шероховатость со стороны возбуждения УЗ импульсов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z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не более 0,32 мк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эффициент затухания продольных УЗ волн – не более 150 дБ/м в диапазоне частот до 25 МГ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7:20:41Z</dcterms:created>
  <dc:creator>Базылев П.В.</dc:creator>
  <dc:description/>
  <dc:language>en-US</dc:language>
  <cp:lastModifiedBy>Базылев</cp:lastModifiedBy>
  <dcterms:modified xsi:type="dcterms:W3CDTF">2017-10-20T06:55:30Z</dcterms:modified>
  <cp:revision>55</cp:revision>
  <dc:subject/>
  <dc:title>Сличения КООМЕТ 448/RU/08   ДВФ ВНИИФТРИ (Россия, Хабаровск)  БелГИМ (Беларусь, Минск)  Анализ результатов сличений  по Руководству КООМЕТ R/GM/14:2006 Руководство по оцениванию данных ключевых сличений КOOMET (по материалам отчета о сличении)</dc:title>
</cp:coreProperties>
</file>